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6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C15D-006E-4571-A9DE-55FD2A17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/core4/cor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Y, in reality X=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 1 says X, database 2 says X, but the qualities being described are not identical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so with PATO because the majority of its terms are not technical and are in common everyda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nce less fixed and more open to interper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O: check these numbe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to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709C-C250-4897-A711-057301755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7070-4001-47BA-B855-00BC65735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8979-3DCC-412B-AA8A-A00B2A38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B88B-3E2E-46AA-BEB6-3AD0CA25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10F-E2ED-4E7E-9E00-074E0A5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3C31-1478-4324-9798-0FFA85BA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2FD2-5EE6-4E1A-8C82-E9FE8919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C23-D2F6-4854-B6C4-0C76E4275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025-5141-4404-AB40-C928EF1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D01-A81E-491D-96E6-96ED5B4A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64DC-2BD0-4044-92FE-445D5A91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D77A-7E2E-41D5-A881-223D11A8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66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E14B-1C82-4373-AA2B-1B9C01A6F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9528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Gill Sans"/>
              </a:rPr>
              <a:t>BBOP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Hinxt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8000"/>
                </a:solidFill>
                <a:latin typeface="Gill Sans"/>
              </a:rPr>
              <a:t>May 2006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rom the top dow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First, the fake term ‘pato’ must be remov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ow do we define ‘attribut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I prefer the term ‘quality’ or ‘property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ribute implies attribu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length_in_centimetres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 an attribu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can of course continue to say ‘attribute’ but I use ‘quality’ in these slid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st of new new pato defs are phrased as ‘a property of…’ which I like, but inconsistent with calling the root ‘attribute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ll then, what is a quality/proper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a quality is NO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are not measuremen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stances of qualities exist independently of their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ies can have zero or more 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se are not the names of qualiti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ercent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c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norm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igh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examples of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particular redness of the left eye of a single individual f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instance of 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color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quality 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te: the eye does not instantiate ‘red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ATO represents </a:t>
            </a:r>
            <a:r>
              <a:rPr b="1" lang="en-US" sz="2800" spc="-1" strike="noStrike">
                <a:solidFill>
                  <a:srgbClr val="ffffff"/>
                </a:solidFill>
                <a:latin typeface="Gill Sans"/>
              </a:rPr>
              <a:t>quality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ATO definitions can be used to classify quality instances by the types the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instantiat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9640" y="4191120"/>
            <a:ext cx="329868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rticular case o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dness (of a particu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y ey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838080"/>
            <a:ext cx="19958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red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2209680" y="129528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1360" y="242244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21480" y="4267080"/>
            <a:ext cx="307800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 instance of an ey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 a particular f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5160" y="762120"/>
            <a:ext cx="204624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ype “ey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7254720" y="1311120"/>
            <a:ext cx="0" cy="2819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76400" y="2438280"/>
            <a:ext cx="155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tanti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86200" y="4800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50880" y="4403880"/>
            <a:ext cx="160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he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(is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_bear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lities are </a:t>
            </a:r>
            <a:r>
              <a:rPr b="0" i="1" lang="en-US" sz="4400" spc="-1" strike="noStrike">
                <a:solidFill>
                  <a:srgbClr val="e3ebf1"/>
                </a:solidFill>
                <a:latin typeface="Gill Sans"/>
              </a:rPr>
              <a:t>dependent</a:t>
            </a: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 ent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ies requir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ear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earers can be physical objects or proces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shape requires a physical object to bear i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f the physical object ceases to exist (e.g. it decomposes), then the shape ceases to ex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la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relate a bearer with other ent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ensitivity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(to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e with: func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PATO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a new top level divis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 for granular divis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1: top level divis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hysical object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color, shape, temperature, velocity, ploidy, furriness, composition, tex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atiotempor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: A quality </a:t>
            </a: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which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 a process as bear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s: rate, periodicity, regularity, dur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 2: subsequent divi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ased on granularity (i.e. size scale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good account of granularity is vital for inferences from molecular (gene) level to organismal (disease)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partition the level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qualities are realised at certain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thers can be realised across level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poros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um-of-parts vs emerg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609480"/>
          <a:ext cx="8686800" cy="66992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quivalent to the sum of the mass of the parts of the bearer (mass at the particle level is primitive/outwith PAT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ic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pac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n optical quality manifest by the capacity of the bearer to block ligh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hys/Ch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Liqui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centr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ompositional relational quality manifest by the relative quantity of some chemical type contained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lec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Ge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plicing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anifest by the splicing processes undergone by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loi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number of genomes that are part of the bear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e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ransformative potency?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cellular quality manifest by the capacity of the bearer cell to differentiate to different cell typ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issu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to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Organis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reproductive 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52280" y="762120"/>
          <a:ext cx="8686800" cy="4951440"/>
        </p:xfrm>
        <a:graphic>
          <a:graphicData uri="http://schemas.openxmlformats.org/drawingml/2006/table">
            <a:tbl>
              <a:tblPr/>
              <a:tblGrid>
                <a:gridCol w="1363680"/>
                <a:gridCol w="1360440"/>
                <a:gridCol w="1874880"/>
                <a:gridCol w="40878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c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Bear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Definition (proposed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Co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orp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 morphological quality which is manifest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2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__ 3D sha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tivation revisited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Ontology: PATO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&amp; using PATO for annotation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Granula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atial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physical and physico-chem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mass, concent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biological qu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molec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cellular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patial organism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patial quality, multiple sca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rphology/for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tical qualit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ill Sans"/>
              </a:rPr>
              <a:t>color, opacity, fluoresce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dvantages of dividing by granular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ula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trategic ques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hould we focus on biological qualities and work with others on morphology, physics-based qualities etc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ood for anno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sy to constrain at high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organismal qualities cannot be borne by molecul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irrors GO and OBO Foundry divis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sier to find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be proved, but I believe so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sider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ssible objec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upper level of an ontology is what the user sees firs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erms such as “cross-granular quality” may be perceived as undesirable and/or abstruse by some us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unter-argumen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lvable using ontology view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ka subsets, sli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e and absolut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PATO terms often come in 3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mass, relative mass, absolute mas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hy do we need these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: One or two hierarchies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urrently two hierarch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ribu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valu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position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re should be one hierarchy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y compromis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t should be possible to transform PATO automatically into a single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urrent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</a:t>
            </a:r>
            <a:br>
              <a:rPr sz="4400"/>
            </a:b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hang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333333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4c4c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for a single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limination of redundanc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 clear line for deciding what should be A and what should be V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ape, bumpy vs bumpines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ntologic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 of thing is a ‘value’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5" name=""/>
          <p:cNvSpPr/>
          <p:nvPr/>
        </p:nvSpPr>
        <p:spPr>
          <a:xfrm>
            <a:off x="304920" y="5562720"/>
            <a:ext cx="8001000" cy="99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93880" y="56340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ederich 1997: [quote here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rguments against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hierarchies reflect cognitive and linguistic structur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the color of the rose changed from red to brow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3 cognitive artifact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want to present data in a way that is natural to user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t this can be solved with a single collapsed hierarch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wo are useful for cross-produc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e later - distinguish modifiers from valu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 is common database patter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…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mpromise: transforma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Two Hierarchies approach is workable if they can be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automatic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collap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erequisite: univoc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‘value’ must be defined to mean exactly one thing on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.e. Each ‘value’ must be the ‘range’ of a single attribu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aving a value ‘fast’ that could be applied to both the spatial quality ‘velocity’ and the process quality ‘duration’ would be forbidde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o should use PATO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riginally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el organism mutant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also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ntology-based evolutionary systemat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euroscience; BIR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nical us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MI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linical recor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o define terms i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diploi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ell;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vasive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tumor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engineer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gene,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condensed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chromosom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lapse on ‘ranges’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182" name=""/>
          <p:cNvSpPr/>
          <p:nvPr/>
        </p:nvSpPr>
        <p:spPr>
          <a:xfrm>
            <a:off x="1523880" y="19051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327672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95480" y="32767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2209320" y="251424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29718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or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4343400"/>
            <a:ext cx="10666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10280" y="43434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.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105520" y="35809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172200" y="35809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324120" y="35809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244440" y="5501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49360" y="6264360"/>
            <a:ext cx="761760" cy="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2590920" y="2209680"/>
            <a:ext cx="3047760" cy="99072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0" y="5105520"/>
            <a:ext cx="6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4240" y="6248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83772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 flipV="1">
            <a:off x="2285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3428640" y="3886200"/>
            <a:ext cx="3962520" cy="457200"/>
          </a:xfrm>
          <a:prstGeom prst="line">
            <a:avLst/>
          </a:prstGeom>
          <a:ln w="1260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ac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u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50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k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086600" y="5638680"/>
            <a:ext cx="106668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le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733920" y="4952520"/>
            <a:ext cx="99036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87692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495252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6248520" y="4952520"/>
            <a:ext cx="129528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695720" y="4952520"/>
            <a:ext cx="175284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7467120" y="4952520"/>
            <a:ext cx="1676520" cy="838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438280" y="4952520"/>
            <a:ext cx="2133720" cy="685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043000" y="5546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3352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1600200"/>
            <a:ext cx="106704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057400" y="11426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172200" y="22093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How many types of shape are there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notched, T-shaped, Y-shaped, branched, unbranched, antrose, retrose, curled, curved, wiggly, squiggly, round, flat, square, oblong, elliptical, ovoid, cuboid, spherical, egg-shaped, rod-shaped, heart-shaped, …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defin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do we compare them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 it worth the effort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types need precise definitions to be useful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al shapes are not mathematical ent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mathematical definitions can hel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xes of classific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imensionalit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2-4D (process “shapes”)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ncave vs convex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gular vs non-angula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number o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d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40000" indent="-205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rner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imitive and composed sha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ork with morphometrics community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hape 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post-coordinate some shape 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g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ad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2-segment-shap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angers of circ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nly for genuine likeness (e.g. homeotic transformatio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t “heart-shaped leaf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ee annotation section of this presen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ep PATO HSV mod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is black a color hue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should allow overlapping partitions of color spac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ifferent domains have ‘sub-terminologies’ of colo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s color relational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Humans vs tetrachromatic UV-seeing animal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osi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using has_par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lor 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ysical qual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tical quality: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 physical quality which exists in virtue of the bearer interacting with visible electromagnetic radiation 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hromatic qual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emitting, transmitting or reflect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h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satur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 variation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lo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85760" indent="-21708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Opacity: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n optical quality which exists in virtue of the bearer aborbing visible electromagnetic radiation 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paqu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luc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ranspar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art 2: Annotation using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nnotation scheme desider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BD Dataflow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ed annotation schem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nnotation scheme desiderat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igour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re is a subset of the scheme which is simpl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he entire scheme is expressiv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It should have an </a:t>
            </a:r>
            <a:r>
              <a:rPr b="1" lang="en-US" sz="4000" spc="-1" strike="noStrike">
                <a:solidFill>
                  <a:srgbClr val="e3ebf1"/>
                </a:solidFill>
                <a:latin typeface="Gill Sans"/>
              </a:rPr>
              <a:t>unambiguous </a:t>
            </a: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mapping to </a:t>
            </a:r>
            <a:r>
              <a:rPr b="0" lang="en-US" sz="4000" spc="-1" strike="noStrike" u="sng">
                <a:solidFill>
                  <a:srgbClr val="e3ebf1"/>
                </a:solidFill>
                <a:uFillTx/>
                <a:latin typeface="Gill Sans"/>
              </a:rPr>
              <a:t>real world entities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if PATO is completely unambiguous, an ill-defined annotation scheme may leave room for ambigu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=eye, Q=re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hat does this mean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t least one eye is red in this one fly instanc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 typical eye is red in this many-eyed spider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some point in ti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both eyes are red in this one fly at all tim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all eyes are red in all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ome eyes are red in some flies in this experi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Unifying goal: integr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ntegrating dat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in and across these domai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levels of granularit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cross different perspectiv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Requir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igorous formal definitions i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both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ontologies and annotation schema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re should be a certain usable subset that is </a:t>
            </a:r>
            <a:r>
              <a:rPr b="0" lang="en-US" sz="4000" spc="-1" strike="noStrike">
                <a:solidFill>
                  <a:srgbClr val="ffff00"/>
                </a:solidFill>
                <a:latin typeface="Gill Sans"/>
              </a:rPr>
              <a:t>simpl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ationale - MODs have limited resources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entry tools for simple subset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building databases and query/search engines is easier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urating with a less expressive formalism is easier, faster and requires less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primary use case is search, for which expressivity is less usefu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ools should have an (optional) simple faca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Simple annotations should be expressible in a simple syntax that is understood by users with relatively little traini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There should be an exchange format and/or database schemas that use traditional technology as might be used in a MO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g XML, relational tabl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Gill Sans"/>
              </a:rPr>
              <a:t>The scheme must be highly expressive</a:t>
            </a:r>
            <a:endParaRPr b="0" lang="en-US" sz="40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ationa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by other NCBCs (BIR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ay be required for cbio 200 gene lis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ill be required in futur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22200" indent="-32220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fic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xpressive superset will be optiona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MODs can ‘pick and choose’ their subse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98400" indent="-2685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ative exchange and storage format will be logic-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74240" indent="-21456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tails outwith scope of this presentation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Dataflow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w will various kinds of phenotypic data get into OBD?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hat kinds of data suppliers will use different formalisms?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3 scenarios… (more possible)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I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eric MOD curators annotates phenotypes using Pheno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notations stored directly in MOD’s central DB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D periodically submit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g using Phenote to create pheno-xm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converts pheno-xml to native logic-based formal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MOD directly, or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allow more expressive queries and have more data integrat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2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Non-MOD generates complex annotations and stores them local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BIRN group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s OWL or Obo-format instance data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converts to native logic-based formalism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Users can query OBD using more complex quer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Example dataflow 3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Bio MOD curates 200 genes using Phenot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nnotations may be stored outside normal MOD schema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chema may not be expressive enough for complicated phenotypes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BD - up to 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Periodic submissions to OB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te can be used to submit pheno-xml, OWL or OB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ill Sans"/>
              </a:rPr>
              <a:t>MOD doesn’t have to worry about format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OBD converts to native formalism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Users can query OBD using relatively complex querie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s this (should it be) different from #1?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09880" y="4952880"/>
            <a:ext cx="1524240" cy="152424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762120"/>
            <a:ext cx="152424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762120"/>
            <a:ext cx="1523880" cy="121896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4120" y="838080"/>
            <a:ext cx="152388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OD 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467480" y="838080"/>
            <a:ext cx="1524240" cy="1219320"/>
          </a:xfrm>
          <a:prstGeom prst="flowChartMagneticDisk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Non-M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2743200"/>
            <a:ext cx="1523880" cy="1143000"/>
          </a:xfrm>
          <a:prstGeom prst="flowChartDocumen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pheno-detail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XML fi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will be described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nformally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using a simple syntax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 use ‘E’ for entity and ‘Q’ for qual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etend it is EAV if you lik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with implicit superfluous ‘A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schema has (will have) a formal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im: database exchange and removal of ambigu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using logical languag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use an internal logic-based represent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utline of annotation schema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AV’ or ‘EQ’ is not enough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ne for (very) simple subse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tens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relational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ion of entity 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unt qualit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sur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tandard case: monadic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7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kidney, Q=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kidney which is hypertrophi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assume that there is more contextual data (not shown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genotype, environment, number of organisms in study that showed ph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retation (with the rest of the database record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ll fish in this experiment with a particular genotype had a hypertrophied kidney at some point in time 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ome thoughts on the ontology itself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Outlin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ow do we define PATO term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exactly is it we’re defining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hierarch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top-level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hat are the finer grained distinctions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apes and colo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Quantific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ong thick thoracic brist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2 statement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long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thoracic bristle, Q=thic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 interpretat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typical thoracic bristle is long and thick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ptional entity quant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Quant={some,all,most,&lt;percentage&gt;,&lt;count&gt;}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thoracic bristle, Q=long, EQuant=80%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80% of the thoracic bristles </a:t>
            </a: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in this one individual fl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OBD internal representation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ime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ample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rain,Q=small,during=sta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 E which has quality that instantiates Q during 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 has the quality Q for some extent of time, and that extent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overlap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ill Sans"/>
              </a:rPr>
              <a:t>during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 and other temporal relations will come from the OBO Relations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onal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.g. sensitiv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eye, Q=sensitive, E2=red ligh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ost-coordinating entity 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lood in head Q=pool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 E may not be pre-defined (pre-coordinated, pre-composed) in the anatomy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ill Sans"/>
              </a:rPr>
              <a:t>post-compose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a type representation (aka make a cross-product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(blood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has_location(head)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e ability to post-coordinate may not be available in the ‘simple-subset’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an be expressed easily in pheno-xml, obo, owl, phenote(soon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BD will handle all required reason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e-coordinating phenotyp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ammalian phenotype ontology has pre-coordinated phenotype term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steoporosi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ink fu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will be able to translat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ost-coordinated queries to annotations on pre-defined term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eries on pre-defined terms to post-coordinated phenotyp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quire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mputable logical definitions are added to MP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permatocytes devoid of aster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Absence can never be instantiated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wingl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wing, Q=abs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utodef “an instance of wing which is absent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roposal: restate a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mesothoracic segment, Q=missing part, E2=w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This has other advantag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spermatocyte devoid of asters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e quality of ‘being many’ does not inhere in a finger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olydactyl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finger, Q=supernumera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“a finger which is supernumerar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hich has more fingers as parts than is typic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Wit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nt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extensio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nd, Q=supernumerary parts, E2=finger, Count=6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could also say +1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 hand with 6 fingers, which is more than normal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ed PATO sub-hierarch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80" name=""/>
          <p:cNvSpPr/>
          <p:nvPr/>
        </p:nvSpPr>
        <p:spPr>
          <a:xfrm>
            <a:off x="1371600" y="1905120"/>
            <a:ext cx="236232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 qu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327672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8800" y="3279600"/>
            <a:ext cx="209340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nor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cou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990720" y="251424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2057400" y="25142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9360" y="3279600"/>
            <a:ext cx="1840320" cy="825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ing ext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 flipV="1">
            <a:off x="2286000" y="2514240"/>
            <a:ext cx="220968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4800600"/>
            <a:ext cx="106704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828800" y="4800600"/>
            <a:ext cx="1066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ck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09480" y="396252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609120" y="3962520"/>
            <a:ext cx="16765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t’s all about the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verything is doomed to failure without rigorous defin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ven more so with PATO than other ontologie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O Foundry Principl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initions should describe things in reality, not how terms are u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def should not use the word ‘describing’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hould we come up with a policy for definitions in PA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urrently: 19 defs (2.5 are circular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proposed breakout session: examine all thes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ass count qualitie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furri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orosit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earers possess these qualities by virtue of the number and qualities of their granular part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hairiness by virtue of: number, width, length, spacing, orientation of hair-part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What is the essence of hairy?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hair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but what if we do not have ‘hairy’ pre-coordinated in PATO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lternate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skin,Q=excess fine-grained parts,E2=hair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en Q: is this equivalent to, subsumed by, or related to representation 1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other representation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hair, Q=lo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s is something diffe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creased brown fat cel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 brown fat cells”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ttempt 1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=brown fat cell, Q=increased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utodef: a brown fat cell which is incre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state a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organism, Q=increased (granular) parts, E2=brown fat cel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orks better for “increased brown fat cells in upper body”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OBD handles reasoning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hould annotations to above be returned for queries of PATO term “fatty”?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elativity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PATO has terms like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larg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crease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text is im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rain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genus/order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xtension to make explicit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In_comparison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igger than average for species/genus/etc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taxon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efault is same species as specified by genotyp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39480" indent="-3394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mparative phenotyp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35480" indent="-28296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=brain,Q=large,In_comparison_to=&lt;phenotype-id&gt;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requires recording phenotype IDs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131480" indent="-22608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.g. two experiments, same genotype, different environment, phenotype stronger in on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Ratio &amp; relative_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Use cases: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ize of brain relative to size of skull in an individual when compared to size brain relative to size of skull in a typical individual of that spec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brain,Q=large,relative_to=skull, in_comparison_to=&lt;taxon_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efaults to: whole organism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bone,Q=notched,Mod=mil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tandardised qualitative modifier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Meaning dependent on E and Q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an have multiple, cross-cutting scal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01560" indent="-231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qualitative and numeric/score based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4038480"/>
          <a:ext cx="7162920" cy="457200"/>
        </p:xfrm>
        <a:graphic>
          <a:graphicData uri="http://schemas.openxmlformats.org/drawingml/2006/table">
            <a:tbl>
              <a:tblPr/>
              <a:tblGrid>
                <a:gridCol w="959760"/>
                <a:gridCol w="2012400"/>
                <a:gridCol w="1532160"/>
                <a:gridCol w="1255320"/>
                <a:gridCol w="14032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609480" y="4648320"/>
          <a:ext cx="7162920" cy="380880"/>
        </p:xfrm>
        <a:graphic>
          <a:graphicData uri="http://schemas.openxmlformats.org/drawingml/2006/table">
            <a:tbl>
              <a:tblPr/>
              <a:tblGrid>
                <a:gridCol w="960480"/>
                <a:gridCol w="739800"/>
                <a:gridCol w="663480"/>
                <a:gridCol w="592200"/>
                <a:gridCol w="1551240"/>
                <a:gridCol w="1257120"/>
                <a:gridCol w="13986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38862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3809520" y="5867280"/>
            <a:ext cx="30456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5257800"/>
            <a:ext cx="30456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629400" y="5334120"/>
            <a:ext cx="30492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rot="5400000">
            <a:off x="6593400" y="5826960"/>
            <a:ext cx="299880" cy="2286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0" y="5257800"/>
            <a:ext cx="304920" cy="1238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5400000">
            <a:off x="2209680" y="5790960"/>
            <a:ext cx="228600" cy="763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modify meaning of Q 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Influence of Mod on Q is subjective but the direction is objective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Example: E=adult_human_body, during=sleep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={low,high} temperature, Mod=mild,normal,moderate,extrem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533520" y="3200400"/>
          <a:ext cx="6933960" cy="914400"/>
        </p:xfrm>
        <a:graphic>
          <a:graphicData uri="http://schemas.openxmlformats.org/drawingml/2006/table">
            <a:tbl>
              <a:tblPr/>
              <a:tblGrid>
                <a:gridCol w="960480"/>
                <a:gridCol w="2011320"/>
                <a:gridCol w="1531800"/>
                <a:gridCol w="1255680"/>
                <a:gridCol w="11746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n+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bs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mildly reali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ro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extre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7" name=""/>
          <p:cNvGraphicFramePr/>
          <p:nvPr/>
        </p:nvGraphicFramePr>
        <p:xfrm>
          <a:off x="533520" y="4114800"/>
          <a:ext cx="6933960" cy="380880"/>
        </p:xfrm>
        <a:graphic>
          <a:graphicData uri="http://schemas.openxmlformats.org/drawingml/2006/table">
            <a:tbl>
              <a:tblPr/>
              <a:tblGrid>
                <a:gridCol w="960120"/>
                <a:gridCol w="739800"/>
                <a:gridCol w="663480"/>
                <a:gridCol w="592200"/>
                <a:gridCol w="1551240"/>
                <a:gridCol w="1257120"/>
                <a:gridCol w="1170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0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609480" y="487692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N/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"/>
          <p:cNvSpPr/>
          <p:nvPr/>
        </p:nvSpPr>
        <p:spPr>
          <a:xfrm>
            <a:off x="7444800" y="487692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609480" y="54864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1" name=""/>
          <p:cNvSpPr/>
          <p:nvPr/>
        </p:nvSpPr>
        <p:spPr>
          <a:xfrm>
            <a:off x="7444800" y="54100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low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6172200"/>
          <a:ext cx="6553080" cy="395280"/>
        </p:xfrm>
        <a:graphic>
          <a:graphicData uri="http://schemas.openxmlformats.org/drawingml/2006/table">
            <a:tbl>
              <a:tblPr/>
              <a:tblGrid>
                <a:gridCol w="1065240"/>
                <a:gridCol w="1601640"/>
                <a:gridCol w="2328840"/>
                <a:gridCol w="155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7.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39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3" name=""/>
          <p:cNvSpPr/>
          <p:nvPr/>
        </p:nvSpPr>
        <p:spPr>
          <a:xfrm>
            <a:off x="7444800" y="62164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igh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er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528320" y="3565440"/>
            <a:ext cx="14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3800" y="40384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ore sc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odifiers and PATO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hould not be in a true ontology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But we can still give these PATO ID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kept separate from core PATO ontology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25800" indent="-32580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can be relationa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relatum may be implici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05600" indent="-2714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.g. abnormal_with_respct_to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odifiers serve similar purposes as Values in tripartite EAV model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ifference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bsent, low, high are </a:t>
            </a:r>
            <a:r>
              <a:rPr b="1" lang="en-US" sz="2400" spc="-1" strike="noStrike">
                <a:solidFill>
                  <a:srgbClr val="ffffff"/>
                </a:solidFill>
                <a:latin typeface="Gill Sans"/>
              </a:rPr>
              <a:t>not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treated in the same way as genuine quality types like ‘notched’, ‘large’, ‘diploid’, ‘pink’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ey are ingredients in the representation language, and not types in an ontolog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80880" y="228600"/>
            <a:ext cx="8458200" cy="64771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sistency: the property of holding together and retaining sha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amplitude: The size of the maximum displacement from the 'normal' position, when periodic motion is taking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lacement: The spatial property of the way in which something is plac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inted value: A sharp or tapered 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pinastic value: A downward bending of leaves or other plantnpa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blong value: Having a somewhat elongated form withnapproximately parallel si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lliptic value: Elliptic shap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hearted value: Heart shap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asciated value: Abnormally flattened or coalesced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city: The property of not permitting the passage of electromagnetic radiat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opaque value: Not clear; not transmitting or reflecting light or radiant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dulate value: Having a sinuate margin and rippled su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rmeability: The property of something that can be pervaded by a liquid (as by osmosis or diffus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sity: The property of being porous; being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rous value: able to absorb flui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sity: a property of fluids describing their internal resistance to fl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viscous value: a relatively high resistance to flow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tency: The time that elapses between a stimulus and the respon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ower: The rate at which work is d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eterozygous flies have very short and highly branched arista laterals.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, EQuant=all, Q=short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rista lateral EQuant=all, Q=branched, Mod=extreme, in_comparison_to=Dme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Measur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Measurements are not qualitie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 the schema, representations of measurements are attached to the representations of qualitie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eparate measurement schema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don’t need to discuss fine grained detail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data providers will require more detail than others here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.g. averages, error bars, …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2cm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E=tail, Q=length, Measurement=+.1cm, in_comparison_to=&lt;individual-id&gt;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Likenes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Shape likenes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=A2 segment,Q=morphology,Similar_to=A3 seg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90840" indent="-26568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Interp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2" marL="1062720" indent="-21240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An A2 segment with the morphological features of an A3 seg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8960" indent="-31896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ut not “heart-shaped leaves”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Conditional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Some phenotypes are only realised under certain conditions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143000" indent="-228600"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ncluding chemical interactions, RNA interference etc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we should separate conditionals (this phenotype only seen in this envirotype with this genotype) from data (on this occasion this phenotype seen in this envirotype with this genotype)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Schema elemen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Phenotype character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Qua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E2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Cou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d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Relative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In_comparison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Similar_to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easurment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Temporal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Most of these elements are optional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data providers pick and choose their level of expressiv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future extens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boolean combinations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conditional statements </a:t>
            </a:r>
            <a:endParaRPr b="0" lang="en-US" sz="3200" spc="-1" strike="noStrike">
              <a:solidFill>
                <a:srgbClr val="ffffff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g environment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345" name=""/>
          <p:cNvSpPr/>
          <p:nvPr/>
        </p:nvSpPr>
        <p:spPr>
          <a:xfrm>
            <a:off x="3254760" y="3503880"/>
            <a:ext cx="1264320" cy="4597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dif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37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2900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724280" y="4800600"/>
            <a:ext cx="106704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819520" y="4038120"/>
            <a:ext cx="99036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6200" y="403812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038120" y="4038120"/>
            <a:ext cx="121932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248520" y="4800600"/>
            <a:ext cx="1066680" cy="60948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1371600" y="3962520"/>
            <a:ext cx="236232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 flipV="1">
            <a:off x="4267080" y="4038120"/>
            <a:ext cx="243864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Proposal: genus-differentia definition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n </a:t>
            </a:r>
            <a:r>
              <a:rPr b="0" lang="en-US" sz="2800" spc="-1" strike="noStrike">
                <a:solidFill>
                  <a:srgbClr val="ffff00"/>
                </a:solidFill>
                <a:latin typeface="Gill Sans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 i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800" spc="-1" strike="noStrike" u="sng">
                <a:solidFill>
                  <a:srgbClr val="66ccff"/>
                </a:solidFill>
                <a:uFillTx/>
                <a:latin typeface="Gill Sans"/>
              </a:rPr>
              <a:t>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ach def should refine the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Gill Sans"/>
              </a:rPr>
              <a:t>Single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is_a paren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: (non-PATO)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"/>
              </a:rPr>
              <a:t>binucleate cell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a </a:t>
            </a:r>
            <a:r>
              <a:rPr b="0" lang="en-US" sz="2400" spc="-1" strike="noStrike" u="sng">
                <a:solidFill>
                  <a:srgbClr val="ff6fcf"/>
                </a:solidFill>
                <a:uFillTx/>
                <a:latin typeface="Gill Sans"/>
              </a:rPr>
              <a:t>cell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ill Sans"/>
              </a:rPr>
              <a:t>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Gill Sans"/>
              </a:rPr>
              <a:t>has two nuclei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Example (proposed PATO def)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vex shape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 shape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has no indentations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opacity def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 optical quality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which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exists by virtue of the bearer’s capacity to block the passage of electromagnetic radiat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v similar to existing def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Gill Sans"/>
              </a:rPr>
              <a:t>This policy will reap benefits</a:t>
            </a:r>
            <a:endParaRPr b="0" lang="en-US" sz="4400" spc="-1" strike="noStrike">
              <a:solidFill>
                <a:srgbClr val="e3ebf1"/>
              </a:solidFill>
              <a:latin typeface="Gill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Helps avoid circularit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Ensures precision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onsistency in wording user-friendly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ill Sans"/>
              </a:rPr>
              <a:t>Considerations:</a:t>
            </a:r>
            <a:endParaRPr b="0" lang="en-US" sz="28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metimes leads to awkward phrasing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Gill Sans"/>
              </a:rPr>
              <a:t>-ity</a:t>
            </a: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 suffix - “an opacity which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olution: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allow shortened gerund form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having…, being…., ….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66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ill Sans"/>
              </a:rPr>
              <a:t>most of the existing defs conform already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"/>
              </a:rPr>
              <a:t>implicit prefix “A G which exists by virtue of the bearer…”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2T21:28:44Z</dcterms:created>
  <dc:creator>Chris Mungall</dc:creator>
  <dc:description/>
  <dc:language>en-US</dc:language>
  <cp:lastModifiedBy>Chris Mungall</cp:lastModifiedBy>
  <cp:lastPrinted>2006-03-08T06:46:51Z</cp:lastPrinted>
  <dcterms:modified xsi:type="dcterms:W3CDTF">2006-05-18T13:13:33Z</dcterms:modified>
  <cp:revision>1269</cp:revision>
  <dc:subject/>
  <dc:title>NCBIO-Berkeley</dc:title>
</cp:coreProperties>
</file>